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065-8692-4007-ADE5-5CAE2624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231-B8E6-4CAD-BBD1-665C2328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F6B-0E99-4CEA-841A-AAFBC5A5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64A-D549-4F8E-A45C-EA7750B3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2A6-120F-4449-99C4-BA0B5F2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497-541F-4063-BF15-E2803007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0C0-A86F-4F42-AE69-8F36D086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21E-C78E-4B87-ADDF-7A12933B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4E-8450-4AD3-A62A-8EACA733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DFB-E8DE-425A-B052-E9576D2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F3E-EC92-47BA-978A-FDF95FC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D4E-8911-46E2-A428-8ADC5E3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E6DC-7540-457B-A5BA-BBFC74A94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4.wmf"/><Relationship Id="rId20" Type="http://schemas.openxmlformats.org/officeDocument/2006/relationships/image" Target="../media/image14.wmf"/><Relationship Id="rId21" Type="http://schemas.openxmlformats.org/officeDocument/2006/relationships/image" Target="../media/image14.wmf"/><Relationship Id="rId22" Type="http://schemas.openxmlformats.org/officeDocument/2006/relationships/image" Target="../media/image14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4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6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6.wmf"/><Relationship Id="rId33" Type="http://schemas.openxmlformats.org/officeDocument/2006/relationships/image" Target="../media/image17.wmf"/><Relationship Id="rId34" Type="http://schemas.openxmlformats.org/officeDocument/2006/relationships/image" Target="../media/image16.wmf"/><Relationship Id="rId35" Type="http://schemas.openxmlformats.org/officeDocument/2006/relationships/image" Target="../media/image16.wmf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940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制定旅游计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5"/>
          <p:cNvSpPr/>
          <p:nvPr/>
        </p:nvSpPr>
        <p:spPr>
          <a:xfrm>
            <a:off x="4572000" y="746280"/>
            <a:ext cx="381780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地点：</a:t>
            </a:r>
            <a:r>
              <a:rPr b="0" lang="zh-CN" sz="22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人数：</a:t>
            </a:r>
            <a:r>
              <a:rPr b="0" lang="zh-CN" sz="22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人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时间：</a:t>
            </a:r>
            <a:r>
              <a:rPr b="0" lang="zh-CN" sz="22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57160" y="2141640"/>
          <a:ext cx="7431120" cy="2695320"/>
        </p:xfrm>
        <a:graphic>
          <a:graphicData uri="http://schemas.openxmlformats.org/drawingml/2006/table">
            <a:tbl>
              <a:tblPr/>
              <a:tblGrid>
                <a:gridCol w="1246320"/>
                <a:gridCol w="733320"/>
                <a:gridCol w="660600"/>
                <a:gridCol w="931680"/>
                <a:gridCol w="642960"/>
                <a:gridCol w="642960"/>
                <a:gridCol w="644400"/>
                <a:gridCol w="642960"/>
                <a:gridCol w="642960"/>
                <a:gridCol w="642960"/>
              </a:tblGrid>
              <a:tr h="4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往返交通费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景点游览费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交通工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景  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890640" y="4809960"/>
          <a:ext cx="7429320" cy="99072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86080"/>
                <a:gridCol w="14857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项  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9360">
                      <a:solidFill>
                        <a:srgbClr val="00adef"/>
                      </a:solidFill>
                    </a:lnT>
                    <a:lnB w="57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住  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9360">
                      <a:solidFill>
                        <a:srgbClr val="00adef"/>
                      </a:solidFill>
                    </a:lnT>
                    <a:lnB w="57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伙  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9360">
                      <a:solidFill>
                        <a:srgbClr val="00adef"/>
                      </a:solidFill>
                    </a:lnT>
                    <a:lnB w="57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市内交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9360">
                      <a:solidFill>
                        <a:srgbClr val="00adef"/>
                      </a:solidFill>
                    </a:lnT>
                    <a:lnB w="57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其他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00adef"/>
                      </a:solidFill>
                    </a:lnT>
                    <a:lnB w="57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费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5760">
                      <a:solidFill>
                        <a:srgbClr val="00adef"/>
                      </a:solidFill>
                    </a:lnT>
                    <a:lnB w="93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5760">
                      <a:solidFill>
                        <a:srgbClr val="00adef"/>
                      </a:solidFill>
                    </a:lnT>
                    <a:lnB w="93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5760">
                      <a:solidFill>
                        <a:srgbClr val="00adef"/>
                      </a:solidFill>
                    </a:lnT>
                    <a:lnB w="93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5760">
                      <a:solidFill>
                        <a:srgbClr val="00adef"/>
                      </a:solidFill>
                    </a:lnR>
                    <a:lnT w="5760">
                      <a:solidFill>
                        <a:srgbClr val="00adef"/>
                      </a:solidFill>
                    </a:lnT>
                    <a:lnB w="93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de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00adef"/>
                      </a:solidFill>
                    </a:lnT>
                    <a:lnB w="9360">
                      <a:solidFill>
                        <a:srgbClr val="00adef"/>
                      </a:solidFill>
                    </a:lnB>
                    <a:solidFill>
                      <a:srgbClr val="c0ffff"/>
                    </a:solidFill>
                  </a:tcPr>
                </a:tc>
              </a:tr>
            </a:tbl>
          </a:graphicData>
        </a:graphic>
      </p:graphicFrame>
      <p:sp>
        <p:nvSpPr>
          <p:cNvPr id="272" name="矩形 10"/>
          <p:cNvSpPr/>
          <p:nvPr/>
        </p:nvSpPr>
        <p:spPr>
          <a:xfrm>
            <a:off x="3772800" y="5715000"/>
            <a:ext cx="286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次旅游总的费用大约是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71280" y="571680"/>
            <a:ext cx="714600" cy="17190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34"/>
          <p:cNvSpPr/>
          <p:nvPr/>
        </p:nvSpPr>
        <p:spPr>
          <a:xfrm>
            <a:off x="1071720" y="762120"/>
            <a:ext cx="3500280" cy="1298520"/>
          </a:xfrm>
          <a:prstGeom prst="wedgeRoundRectCallout">
            <a:avLst>
              <a:gd name="adj1" fmla="val -56875"/>
              <a:gd name="adj2" fmla="val 1888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填写旅游地点及旅游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数和时间，再把每一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费用预算填入表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38699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6" name="图片 538700" descr=""/>
          <p:cNvPicPr/>
          <p:nvPr/>
        </p:nvPicPr>
        <p:blipFill>
          <a:blip r:embed="rId3"/>
          <a:stretch/>
        </p:blipFill>
        <p:spPr>
          <a:xfrm>
            <a:off x="291636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图片 538701" descr=""/>
          <p:cNvPicPr/>
          <p:nvPr/>
        </p:nvPicPr>
        <p:blipFill>
          <a:blip r:embed="rId4"/>
          <a:stretch/>
        </p:blipFill>
        <p:spPr>
          <a:xfrm>
            <a:off x="219564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图片 538702" descr=""/>
          <p:cNvPicPr/>
          <p:nvPr/>
        </p:nvPicPr>
        <p:blipFill>
          <a:blip r:embed="rId5"/>
          <a:stretch/>
        </p:blipFill>
        <p:spPr>
          <a:xfrm>
            <a:off x="291636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图片 538703" descr=""/>
          <p:cNvPicPr/>
          <p:nvPr/>
        </p:nvPicPr>
        <p:blipFill>
          <a:blip r:embed="rId6"/>
          <a:stretch/>
        </p:blipFill>
        <p:spPr>
          <a:xfrm>
            <a:off x="219564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图片 538704" descr=""/>
          <p:cNvPicPr/>
          <p:nvPr/>
        </p:nvPicPr>
        <p:blipFill>
          <a:blip r:embed="rId7"/>
          <a:stretch/>
        </p:blipFill>
        <p:spPr>
          <a:xfrm>
            <a:off x="291636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1" name="图片 538705" descr=""/>
          <p:cNvPicPr/>
          <p:nvPr/>
        </p:nvPicPr>
        <p:blipFill>
          <a:blip r:embed="rId8"/>
          <a:stretch/>
        </p:blipFill>
        <p:spPr>
          <a:xfrm>
            <a:off x="450072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图片 538706" descr=""/>
          <p:cNvPicPr/>
          <p:nvPr/>
        </p:nvPicPr>
        <p:blipFill>
          <a:blip r:embed="rId9"/>
          <a:stretch/>
        </p:blipFill>
        <p:spPr>
          <a:xfrm>
            <a:off x="450072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3" name="图片 538707" descr=""/>
          <p:cNvPicPr/>
          <p:nvPr/>
        </p:nvPicPr>
        <p:blipFill>
          <a:blip r:embed="rId10"/>
          <a:stretch/>
        </p:blipFill>
        <p:spPr>
          <a:xfrm>
            <a:off x="450072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图片 538708" descr=""/>
          <p:cNvPicPr/>
          <p:nvPr/>
        </p:nvPicPr>
        <p:blipFill>
          <a:blip r:embed="rId11"/>
          <a:stretch/>
        </p:blipFill>
        <p:spPr>
          <a:xfrm>
            <a:off x="514836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图片 538709" descr=""/>
          <p:cNvPicPr/>
          <p:nvPr/>
        </p:nvPicPr>
        <p:blipFill>
          <a:blip r:embed="rId12"/>
          <a:stretch/>
        </p:blipFill>
        <p:spPr>
          <a:xfrm>
            <a:off x="514836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图片 538710" descr=""/>
          <p:cNvPicPr/>
          <p:nvPr/>
        </p:nvPicPr>
        <p:blipFill>
          <a:blip r:embed="rId13"/>
          <a:stretch/>
        </p:blipFill>
        <p:spPr>
          <a:xfrm>
            <a:off x="514836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图片 538711" descr=""/>
          <p:cNvPicPr/>
          <p:nvPr/>
        </p:nvPicPr>
        <p:blipFill>
          <a:blip r:embed="rId14"/>
          <a:stretch/>
        </p:blipFill>
        <p:spPr>
          <a:xfrm>
            <a:off x="579600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图片 538712" descr=""/>
          <p:cNvPicPr/>
          <p:nvPr/>
        </p:nvPicPr>
        <p:blipFill>
          <a:blip r:embed="rId15"/>
          <a:stretch/>
        </p:blipFill>
        <p:spPr>
          <a:xfrm>
            <a:off x="579600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9" name="图片 538713" descr=""/>
          <p:cNvPicPr/>
          <p:nvPr/>
        </p:nvPicPr>
        <p:blipFill>
          <a:blip r:embed="rId16"/>
          <a:stretch/>
        </p:blipFill>
        <p:spPr>
          <a:xfrm>
            <a:off x="579600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0" name="图片 538714" descr=""/>
          <p:cNvPicPr/>
          <p:nvPr/>
        </p:nvPicPr>
        <p:blipFill>
          <a:blip r:embed="rId17"/>
          <a:stretch/>
        </p:blipFill>
        <p:spPr>
          <a:xfrm>
            <a:off x="644364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图片 538715" descr=""/>
          <p:cNvPicPr/>
          <p:nvPr/>
        </p:nvPicPr>
        <p:blipFill>
          <a:blip r:embed="rId18"/>
          <a:stretch/>
        </p:blipFill>
        <p:spPr>
          <a:xfrm>
            <a:off x="644364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图片 538716" descr=""/>
          <p:cNvPicPr/>
          <p:nvPr/>
        </p:nvPicPr>
        <p:blipFill>
          <a:blip r:embed="rId19"/>
          <a:stretch/>
        </p:blipFill>
        <p:spPr>
          <a:xfrm>
            <a:off x="644364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图片 538717" descr=""/>
          <p:cNvPicPr/>
          <p:nvPr/>
        </p:nvPicPr>
        <p:blipFill>
          <a:blip r:embed="rId20"/>
          <a:stretch/>
        </p:blipFill>
        <p:spPr>
          <a:xfrm>
            <a:off x="709308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图片 538718" descr=""/>
          <p:cNvPicPr/>
          <p:nvPr/>
        </p:nvPicPr>
        <p:blipFill>
          <a:blip r:embed="rId21"/>
          <a:stretch/>
        </p:blipFill>
        <p:spPr>
          <a:xfrm>
            <a:off x="709308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5" name="图片 538719" descr=""/>
          <p:cNvPicPr/>
          <p:nvPr/>
        </p:nvPicPr>
        <p:blipFill>
          <a:blip r:embed="rId22"/>
          <a:stretch/>
        </p:blipFill>
        <p:spPr>
          <a:xfrm>
            <a:off x="709308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6" name="图片 538720" descr=""/>
          <p:cNvPicPr/>
          <p:nvPr/>
        </p:nvPicPr>
        <p:blipFill>
          <a:blip r:embed="rId23"/>
          <a:stretch/>
        </p:blipFill>
        <p:spPr>
          <a:xfrm>
            <a:off x="7667640" y="314172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图片 538721" descr=""/>
          <p:cNvPicPr/>
          <p:nvPr/>
        </p:nvPicPr>
        <p:blipFill>
          <a:blip r:embed="rId24"/>
          <a:stretch/>
        </p:blipFill>
        <p:spPr>
          <a:xfrm>
            <a:off x="7667640" y="3622680"/>
            <a:ext cx="5047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图片 538722" descr=""/>
          <p:cNvPicPr/>
          <p:nvPr/>
        </p:nvPicPr>
        <p:blipFill>
          <a:blip r:embed="rId25"/>
          <a:stretch/>
        </p:blipFill>
        <p:spPr>
          <a:xfrm>
            <a:off x="7667640" y="4102200"/>
            <a:ext cx="50472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9" name="图片 538723" descr=""/>
          <p:cNvPicPr/>
          <p:nvPr/>
        </p:nvPicPr>
        <p:blipFill>
          <a:blip r:embed="rId26"/>
          <a:stretch/>
        </p:blipFill>
        <p:spPr>
          <a:xfrm>
            <a:off x="6227640" y="836640"/>
            <a:ext cx="122400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0" name="图片 538724" descr=""/>
          <p:cNvPicPr/>
          <p:nvPr/>
        </p:nvPicPr>
        <p:blipFill>
          <a:blip r:embed="rId27"/>
          <a:stretch/>
        </p:blipFill>
        <p:spPr>
          <a:xfrm>
            <a:off x="6227640" y="1333440"/>
            <a:ext cx="1224000" cy="3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图片 538725" descr=""/>
          <p:cNvPicPr/>
          <p:nvPr/>
        </p:nvPicPr>
        <p:blipFill>
          <a:blip r:embed="rId28"/>
          <a:stretch/>
        </p:blipFill>
        <p:spPr>
          <a:xfrm>
            <a:off x="6227640" y="1832040"/>
            <a:ext cx="1224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图片 538726" descr=""/>
          <p:cNvPicPr/>
          <p:nvPr/>
        </p:nvPicPr>
        <p:blipFill>
          <a:blip r:embed="rId29"/>
          <a:stretch/>
        </p:blipFill>
        <p:spPr>
          <a:xfrm>
            <a:off x="2484360" y="5173560"/>
            <a:ext cx="1224000" cy="3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图片 538727" descr=""/>
          <p:cNvPicPr/>
          <p:nvPr/>
        </p:nvPicPr>
        <p:blipFill>
          <a:blip r:embed="rId30"/>
          <a:stretch/>
        </p:blipFill>
        <p:spPr>
          <a:xfrm>
            <a:off x="3995640" y="5203800"/>
            <a:ext cx="1224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图片 538728" descr=""/>
          <p:cNvPicPr/>
          <p:nvPr/>
        </p:nvPicPr>
        <p:blipFill>
          <a:blip r:embed="rId31"/>
          <a:stretch/>
        </p:blipFill>
        <p:spPr>
          <a:xfrm>
            <a:off x="5508720" y="5254560"/>
            <a:ext cx="1224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图片 538729" descr=""/>
          <p:cNvPicPr/>
          <p:nvPr/>
        </p:nvPicPr>
        <p:blipFill>
          <a:blip r:embed="rId32"/>
          <a:stretch/>
        </p:blipFill>
        <p:spPr>
          <a:xfrm>
            <a:off x="6948360" y="5254560"/>
            <a:ext cx="1224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6" name="图片 538730" descr=""/>
          <p:cNvPicPr/>
          <p:nvPr/>
        </p:nvPicPr>
        <p:blipFill>
          <a:blip r:embed="rId33"/>
          <a:stretch/>
        </p:blipFill>
        <p:spPr>
          <a:xfrm>
            <a:off x="6156360" y="5829480"/>
            <a:ext cx="57636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7" name="图片 538731" descr=""/>
          <p:cNvPicPr/>
          <p:nvPr/>
        </p:nvPicPr>
        <p:blipFill>
          <a:blip r:embed="rId34"/>
          <a:stretch/>
        </p:blipFill>
        <p:spPr>
          <a:xfrm>
            <a:off x="2484360" y="5219640"/>
            <a:ext cx="1224000" cy="3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8" name="图片 538732" descr=""/>
          <p:cNvPicPr/>
          <p:nvPr/>
        </p:nvPicPr>
        <p:blipFill>
          <a:blip r:embed="rId35"/>
          <a:stretch/>
        </p:blipFill>
        <p:spPr>
          <a:xfrm>
            <a:off x="3995640" y="5254560"/>
            <a:ext cx="1224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714240" y="666720"/>
            <a:ext cx="1000440" cy="172080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34"/>
          <p:cNvSpPr/>
          <p:nvPr/>
        </p:nvSpPr>
        <p:spPr>
          <a:xfrm>
            <a:off x="2143080" y="952560"/>
            <a:ext cx="2786040" cy="1143000"/>
          </a:xfrm>
          <a:prstGeom prst="wedgeRoundRectCallout">
            <a:avLst>
              <a:gd name="adj1" fmla="val -59481"/>
              <a:gd name="adj2" fmla="val -9435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制订的旅游计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>
            <a:off x="214200" y="22860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班同学比较喜欢的旅游地点有哪些？先进行统计，找出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们选择最多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地点，再填写下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714240" y="666720"/>
            <a:ext cx="1000440" cy="17208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4"/>
          <p:cNvSpPr/>
          <p:nvPr/>
        </p:nvSpPr>
        <p:spPr>
          <a:xfrm>
            <a:off x="2143080" y="952560"/>
            <a:ext cx="2786040" cy="1143000"/>
          </a:xfrm>
          <a:prstGeom prst="wedgeRoundRectCallout">
            <a:avLst>
              <a:gd name="adj1" fmla="val -59481"/>
              <a:gd name="adj2" fmla="val -9435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制订的旅游计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214200" y="22860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班同学比较喜欢的旅游地点有哪些？先进行统计，找出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们选择最多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地点，再填写下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0040" y="3429000"/>
          <a:ext cx="8286840" cy="98892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0960"/>
                <a:gridCol w="1381320"/>
                <a:gridCol w="1380960"/>
                <a:gridCol w="13813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旅游地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  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e79e40"/>
                      </a:solidFill>
                    </a:lnT>
                    <a:lnB w="57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家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5760">
                      <a:solidFill>
                        <a:srgbClr val="e79e40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9e4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e79e40"/>
                      </a:solidFill>
                    </a:lnT>
                    <a:lnB w="9360">
                      <a:solidFill>
                        <a:srgbClr val="e79e4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316" name="矩形 10"/>
          <p:cNvSpPr/>
          <p:nvPr/>
        </p:nvSpPr>
        <p:spPr>
          <a:xfrm>
            <a:off x="428760" y="457200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选择同一旅游地点的家庭结伴旅行，所需要的费用会节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吗？ 先看一看自己家和哪几家可以结伴旅行， 再算一算大约能节省多少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540701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86364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8" name="图片 540702" descr=""/>
          <p:cNvPicPr/>
          <p:nvPr/>
        </p:nvPicPr>
        <p:blipFill>
          <a:blip r:embed="rId3"/>
          <a:stretch/>
        </p:blipFill>
        <p:spPr>
          <a:xfrm>
            <a:off x="3419640" y="3524400"/>
            <a:ext cx="108108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图片 540703" descr=""/>
          <p:cNvPicPr/>
          <p:nvPr/>
        </p:nvPicPr>
        <p:blipFill>
          <a:blip r:embed="rId4"/>
          <a:stretch/>
        </p:blipFill>
        <p:spPr>
          <a:xfrm>
            <a:off x="3492360" y="3943440"/>
            <a:ext cx="863640" cy="38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0" name="图片 540704" descr=""/>
          <p:cNvPicPr/>
          <p:nvPr/>
        </p:nvPicPr>
        <p:blipFill>
          <a:blip r:embed="rId5"/>
          <a:stretch/>
        </p:blipFill>
        <p:spPr>
          <a:xfrm>
            <a:off x="4788000" y="3508200"/>
            <a:ext cx="1079280" cy="38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1" name="图片 540705" descr=""/>
          <p:cNvPicPr/>
          <p:nvPr/>
        </p:nvPicPr>
        <p:blipFill>
          <a:blip r:embed="rId6"/>
          <a:stretch/>
        </p:blipFill>
        <p:spPr>
          <a:xfrm>
            <a:off x="4838760" y="3987720"/>
            <a:ext cx="1008000" cy="3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图片 540706" descr=""/>
          <p:cNvPicPr/>
          <p:nvPr/>
        </p:nvPicPr>
        <p:blipFill>
          <a:blip r:embed="rId7"/>
          <a:stretch/>
        </p:blipFill>
        <p:spPr>
          <a:xfrm>
            <a:off x="6135840" y="3508200"/>
            <a:ext cx="1150920" cy="38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3" name="图片 540707" descr=""/>
          <p:cNvPicPr/>
          <p:nvPr/>
        </p:nvPicPr>
        <p:blipFill>
          <a:blip r:embed="rId8"/>
          <a:stretch/>
        </p:blipFill>
        <p:spPr>
          <a:xfrm>
            <a:off x="6151680" y="3971880"/>
            <a:ext cx="108432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4" name="图片 540708" descr=""/>
          <p:cNvPicPr/>
          <p:nvPr/>
        </p:nvPicPr>
        <p:blipFill>
          <a:blip r:embed="rId9"/>
          <a:stretch/>
        </p:blipFill>
        <p:spPr>
          <a:xfrm>
            <a:off x="7512120" y="3479760"/>
            <a:ext cx="1092240" cy="3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5" name="图片 540709" descr=""/>
          <p:cNvPicPr/>
          <p:nvPr/>
        </p:nvPicPr>
        <p:blipFill>
          <a:blip r:embed="rId10"/>
          <a:stretch/>
        </p:blipFill>
        <p:spPr>
          <a:xfrm>
            <a:off x="7532640" y="3971880"/>
            <a:ext cx="1143000" cy="3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714240" y="1346040"/>
            <a:ext cx="1000440" cy="17211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34"/>
          <p:cNvSpPr/>
          <p:nvPr/>
        </p:nvSpPr>
        <p:spPr>
          <a:xfrm>
            <a:off x="2073240" y="1631880"/>
            <a:ext cx="3075120" cy="1143000"/>
          </a:xfrm>
          <a:prstGeom prst="wedgeRoundRectCallout">
            <a:avLst>
              <a:gd name="adj1" fmla="val -61777"/>
              <a:gd name="adj2" fmla="val -4041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这次实践活动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什么收获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70000" y="3156120"/>
            <a:ext cx="8874000" cy="29527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34"/>
          <p:cNvSpPr/>
          <p:nvPr/>
        </p:nvSpPr>
        <p:spPr>
          <a:xfrm>
            <a:off x="6357960" y="3346560"/>
            <a:ext cx="2071800" cy="1428480"/>
          </a:xfrm>
          <a:prstGeom prst="wedgeRoundRectCallout">
            <a:avLst>
              <a:gd name="adj1" fmla="val -1782"/>
              <a:gd name="adj2" fmla="val 67777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和统计能帮助我们做出更合理的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4"/>
          <p:cNvSpPr/>
          <p:nvPr/>
        </p:nvSpPr>
        <p:spPr>
          <a:xfrm>
            <a:off x="3357720" y="3346560"/>
            <a:ext cx="2143080" cy="1428480"/>
          </a:xfrm>
          <a:prstGeom prst="wedgeRoundRectCallout">
            <a:avLst>
              <a:gd name="adj1" fmla="val -2296"/>
              <a:gd name="adj2" fmla="val 60865"/>
              <a:gd name="adj3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算旅游费用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多进行比较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节约开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"/>
          <p:cNvSpPr/>
          <p:nvPr/>
        </p:nvSpPr>
        <p:spPr>
          <a:xfrm>
            <a:off x="1000080" y="3346560"/>
            <a:ext cx="1857600" cy="1428480"/>
          </a:xfrm>
          <a:prstGeom prst="wedgeRoundRectCallout">
            <a:avLst>
              <a:gd name="adj1" fmla="val 490"/>
              <a:gd name="adj2" fmla="val 65953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前，要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、全面地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相关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3"/>
          <p:cNvSpPr/>
          <p:nvPr/>
        </p:nvSpPr>
        <p:spPr>
          <a:xfrm>
            <a:off x="428760" y="4775040"/>
            <a:ext cx="121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4"/>
          <p:cNvSpPr/>
          <p:nvPr/>
        </p:nvSpPr>
        <p:spPr>
          <a:xfrm>
            <a:off x="5286240" y="4584600"/>
            <a:ext cx="785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8072280" y="4680000"/>
            <a:ext cx="785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336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337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340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342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346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349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352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355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358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5"/>
          <p:cNvSpPr/>
          <p:nvPr/>
        </p:nvSpPr>
        <p:spPr>
          <a:xfrm>
            <a:off x="142920" y="13334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和爸爸、妈妈准备利用暑假外出旅游，计划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从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乘火车去北京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从北京乘飞机返回。下面是小芳收集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分信息。你能根据这些信息，帮助小芳制订旅游计划并做旅游费用的预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48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4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提出问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52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5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5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6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6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6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7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0" y="136368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京到北京的部分列车时间及票价如下表：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身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.2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.5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的儿童享受半价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85840" y="2719440"/>
            <a:ext cx="84247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75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76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79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81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85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88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91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94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97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"/>
          <p:cNvSpPr/>
          <p:nvPr/>
        </p:nvSpPr>
        <p:spPr>
          <a:xfrm>
            <a:off x="0" y="15764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到南京的部分航班时间及票价如下表：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已满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岁未满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岁的儿童享受半价票，但半价票不再打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7120" y="3005280"/>
            <a:ext cx="84265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02" name="圆角矩形 2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03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06" name="椭圆 4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椭圆 6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08" name="椭圆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椭圆 7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椭圆 8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12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圆角矩形 9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15" name="圆角矩形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圆角矩形 10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18" name="圆角矩形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圆角矩形 12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21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圆角矩形 1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24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42960" y="1341360"/>
            <a:ext cx="5864040" cy="198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42960" y="3551400"/>
            <a:ext cx="5857920" cy="15890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1440" y="5175360"/>
            <a:ext cx="9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今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， 身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4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 从票价、时间等方面考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一家可以怎样安排往返行程？ 把你的安排、想法与同学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7929720" y="3330720"/>
            <a:ext cx="811080" cy="13572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4"/>
          <p:cNvSpPr/>
          <p:nvPr/>
        </p:nvSpPr>
        <p:spPr>
          <a:xfrm>
            <a:off x="6715080" y="1806480"/>
            <a:ext cx="2247840" cy="1428840"/>
          </a:xfrm>
          <a:prstGeom prst="wedgeRoundRectCallout">
            <a:avLst>
              <a:gd name="adj1" fmla="val -2157"/>
              <a:gd name="adj2" fmla="val 62837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你的安排，小芳一家往返交通费一共需要多少元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32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33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36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38" name="椭圆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42" name="椭圆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45" name="圆角矩形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48" name="圆角矩形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51" name="圆角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54" name="圆角矩形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"/>
          <p:cNvSpPr/>
          <p:nvPr/>
        </p:nvSpPr>
        <p:spPr>
          <a:xfrm>
            <a:off x="85680" y="1303200"/>
            <a:ext cx="857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某旅行社推出的“北京一日游” 线路及价格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含交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费、景点门票）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根据小芳一家预定的出发和返回时间，结合往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安排， 设计一个游览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357200" y="2568600"/>
            <a:ext cx="5670720" cy="373212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59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60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63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65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69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72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75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78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81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198440" y="1347840"/>
            <a:ext cx="5670720" cy="37339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4"/>
          <p:cNvSpPr/>
          <p:nvPr/>
        </p:nvSpPr>
        <p:spPr>
          <a:xfrm>
            <a:off x="2459160" y="5278320"/>
            <a:ext cx="4897440" cy="1143000"/>
          </a:xfrm>
          <a:prstGeom prst="wedgeRoundRectCallout">
            <a:avLst>
              <a:gd name="adj1" fmla="val 58425"/>
              <a:gd name="adj2" fmla="val 3263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你设计的游览方案，小芳一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览景点一共需要多少元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1" descr="大卡1.png"/>
          <p:cNvPicPr/>
          <p:nvPr/>
        </p:nvPicPr>
        <p:blipFill>
          <a:blip r:embed="rId2"/>
          <a:stretch/>
        </p:blipFill>
        <p:spPr>
          <a:xfrm>
            <a:off x="7429680" y="4991040"/>
            <a:ext cx="117936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87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88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91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93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97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00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03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06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09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2"/>
          <p:cNvSpPr/>
          <p:nvPr/>
        </p:nvSpPr>
        <p:spPr>
          <a:xfrm>
            <a:off x="428760" y="123516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家在北京期间预计还将需要以下几项费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28760" y="2092320"/>
            <a:ext cx="7286400" cy="124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428760" y="3902040"/>
            <a:ext cx="1224000" cy="20606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4"/>
          <p:cNvSpPr/>
          <p:nvPr/>
        </p:nvSpPr>
        <p:spPr>
          <a:xfrm>
            <a:off x="1930320" y="4282920"/>
            <a:ext cx="6026400" cy="1143000"/>
          </a:xfrm>
          <a:prstGeom prst="wedgeRoundRectCallout">
            <a:avLst>
              <a:gd name="adj1" fmla="val -54379"/>
              <a:gd name="adj2" fmla="val 1106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往返交通和景点游览的费用，算一算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家这次去北京旅游一共需要多少元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16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17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费用预算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220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222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226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29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32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35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38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9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"/>
          <p:cNvSpPr/>
          <p:nvPr/>
        </p:nvSpPr>
        <p:spPr>
          <a:xfrm>
            <a:off x="0" y="17240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一处国内旅游地点，了解相关信息，制订全家的旅游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划，并进行旅游费用的预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14200" y="3073320"/>
            <a:ext cx="928800" cy="2235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34"/>
          <p:cNvSpPr/>
          <p:nvPr/>
        </p:nvSpPr>
        <p:spPr>
          <a:xfrm>
            <a:off x="1285920" y="3594240"/>
            <a:ext cx="3646440" cy="1619280"/>
          </a:xfrm>
          <a:prstGeom prst="wedgeRoundRectCallout">
            <a:avLst>
              <a:gd name="adj1" fmla="val -56875"/>
              <a:gd name="adj2" fmla="val 1888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填写旅游地点及旅游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数和时间，再把每一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费用预算填入表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"/>
          <p:cNvSpPr/>
          <p:nvPr/>
        </p:nvSpPr>
        <p:spPr>
          <a:xfrm>
            <a:off x="5000760" y="3308400"/>
            <a:ext cx="38192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地点：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人数：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人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时间：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45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46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实践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249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251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255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58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61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64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67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1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